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0BA5-8EF9-4811-AA24-E5C731F3A9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D3D1-9E42-444E-B4F9-6FC75F29FB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F33-3D4E-4F31-A4B9-78287F24B0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1595-25A4-4E57-BC6E-6ACA42FAFB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E399-5899-49EF-87BF-AAE24C4C2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5C58-8C91-46BB-B43B-B0F436B57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66F6-E1EF-45E4-AFA1-D64FE24C22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7EF-3022-4EAF-A036-F5FEA142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EFA-7139-46AE-82CE-AA5EC06A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604-D4D7-4944-B5FB-518B7916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620-AD59-468E-91B5-1C968034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9E3-30E4-4C3E-94E3-4711F97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EA6-EB0B-4289-9615-E2EB623E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6F3-F3AF-471E-BCCE-49DF3823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730-0A5F-44CF-A69F-7D16F9C7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507-FDE4-4077-B056-BB428DD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209-A97E-417C-835F-D28B6E0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951-2560-4C49-9319-7D2F78E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169-C1C5-4A54-8A42-D2E25DD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A9A1-BF1D-4138-AEF7-EA126CA39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073240"/>
            <a:ext cx="8605800" cy="2292480"/>
          </a:xfrm>
          <a:prstGeom prst="rect">
            <a:avLst/>
          </a:prstGeom>
          <a:noFill/>
          <a:ln w="1908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Организационные и нормативные вопросы подготовки к проведению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итогового собеседования по русскому языку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 общеобразовательных организациях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олгоградской области в 2023/2024 учебном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M_Beituganova\Desktop\banner_gia_9.jpg"/>
          <p:cNvPicPr/>
          <p:nvPr/>
        </p:nvPicPr>
        <p:blipFill>
          <a:blip r:embed="rId1"/>
          <a:stretch/>
        </p:blipFill>
        <p:spPr>
          <a:xfrm>
            <a:off x="642960" y="428760"/>
            <a:ext cx="1600200" cy="1466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143240" y="142920"/>
            <a:ext cx="478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«Организационно - технологические вопросы подготовки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к проведению итогового собеседования по русскому языку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в общеобразовательных организациях Волгоградской области в 2023/2024 учебном го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585720" y="285840"/>
            <a:ext cx="843588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6"/>
          <p:cNvSpPr/>
          <p:nvPr/>
        </p:nvSpPr>
        <p:spPr>
          <a:xfrm>
            <a:off x="108000" y="1052640"/>
            <a:ext cx="892800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и Федеральной службы по надзору в сфере образ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уки от 04.04.2023 № 232/551 "Об утверждении Порядка проведения государственной итоговой аттест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" (раздел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едеральной службы по надзору в сфере образования и науки от 20.10.2023 №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04-339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оменд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ганизации и проведению итогового собеседования по русскому языку в 2024 г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42920" y="784080"/>
            <a:ext cx="2448000" cy="20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едер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06200" y="2349360"/>
            <a:ext cx="892980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иказы комитета образования, науки и молодежной политики Волгоградской обла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01.08.2023 № 688 "Об утверждении Дорожной карты подготовки к проведению государственной итогов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аттестации по образовательным программам основного общего и среднего общего образования в Волгоградск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бласти в 2024 году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2.12.2023 №122 "Об утверждении Перечня мест подачи заявлений для участия в итоговом собеседован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и в государственной итоговой аттестации по образовательным программам основного общего образования в форме основного государственного экзамена и государственного выпускного экзамена в 2024 году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на территории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1.12.2023 № 1114 "О проведении итогового собеседования по русскому языку в Волгоградской област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в 2023/2024 учебном год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3 "О внесении изменений в приказ комитета образования, науки и молодежной политики Волгоградской области от 28 октября 2019 г. № 138 "Об утверждении порядка проведения итогового собесед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4 "О внесении изменений в приказ комитета образования, науки и молодежной политики Волгоградской области от 16 января 2023 г. № 6 "Об утверждении инструкции по организации и проведению итогового собеседования 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1.12.2022 №107 "Об утверждени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беседования по русскому языку и государственной итоговой аттестации по образовательным программам основного общего образования в Волгоградской области 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чинения (изложения) и государственной итоговой аттестации по образовательным программам среднего общего образования в Волгоградской области"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0"/>
          <p:cNvSpPr/>
          <p:nvPr/>
        </p:nvSpPr>
        <p:spPr>
          <a:xfrm>
            <a:off x="106200" y="2016000"/>
            <a:ext cx="252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егион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:\Users\Джек\Desktop\Coat_of_Arms_of_Volgograd_oblast.png"/>
          <p:cNvPicPr/>
          <p:nvPr/>
        </p:nvPicPr>
        <p:blipFill>
          <a:blip r:embed="rId1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324000"/>
            <a:ext cx="5832720" cy="22536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-9 в 2024 году: новое в Порядк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4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8807400" cy="61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55640" y="4581360"/>
          <a:ext cx="7272360" cy="1452600"/>
        </p:xfrm>
        <a:graphic>
          <a:graphicData uri="http://schemas.openxmlformats.org/drawingml/2006/table">
            <a:tbl>
              <a:tblPr/>
              <a:tblGrid>
                <a:gridCol w="2303640"/>
                <a:gridCol w="1655640"/>
                <a:gridCol w="2378160"/>
                <a:gridCol w="934920"/>
              </a:tblGrid>
              <a:tr h="37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РА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З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, позднооглохш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Стрелка вверх 3"/>
          <p:cNvSpPr/>
          <p:nvPr/>
        </p:nvSpPr>
        <p:spPr>
          <a:xfrm>
            <a:off x="2771640" y="4970520"/>
            <a:ext cx="182520" cy="9795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8"/>
          <p:cNvSpPr/>
          <p:nvPr/>
        </p:nvSpPr>
        <p:spPr>
          <a:xfrm>
            <a:off x="6732720" y="497196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9"/>
          <p:cNvSpPr/>
          <p:nvPr/>
        </p:nvSpPr>
        <p:spPr>
          <a:xfrm rot="10800000">
            <a:off x="4427280" y="497160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0" descr=""/>
          <p:cNvPicPr/>
          <p:nvPr/>
        </p:nvPicPr>
        <p:blipFill>
          <a:blip r:embed="rId1"/>
          <a:stretch/>
        </p:blipFill>
        <p:spPr>
          <a:xfrm>
            <a:off x="433440" y="285840"/>
            <a:ext cx="8435880" cy="488880"/>
          </a:xfrm>
          <a:prstGeom prst="rect">
            <a:avLst/>
          </a:prstGeom>
          <a:ln w="0">
            <a:noFill/>
          </a:ln>
        </p:spPr>
      </p:pic>
      <p:pic>
        <p:nvPicPr>
          <p:cNvPr id="69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50920" y="765000"/>
          <a:ext cx="8785080" cy="3646800"/>
        </p:xfrm>
        <a:graphic>
          <a:graphicData uri="http://schemas.openxmlformats.org/drawingml/2006/table">
            <a:tbl>
              <a:tblPr/>
              <a:tblGrid>
                <a:gridCol w="2104920"/>
                <a:gridCol w="3106800"/>
                <a:gridCol w="1638360"/>
                <a:gridCol w="1935000"/>
              </a:tblGrid>
              <a:tr h="483480"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да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2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3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4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  <a:tr h="45252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завершения подач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ия на участие в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304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 участни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9-х класс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хся на д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, находящихся в медицински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ившие по ИС-9 "незачет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даленные с ИС-9 за Порядка ГИА-9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явившиеся на ИС-9 по уважительным причинам, подтвержденным документаль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завершившие ИС-9 по уважительным причинам, подтвержденным документа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ознакомлени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февра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марта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апре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Выноска со стрелкой вверх 11"/>
          <p:cNvSpPr/>
          <p:nvPr/>
        </p:nvSpPr>
        <p:spPr>
          <a:xfrm>
            <a:off x="322200" y="4292640"/>
            <a:ext cx="8642520" cy="431640"/>
          </a:xfrm>
          <a:prstGeom prst="upArrowCallout">
            <a:avLst>
              <a:gd name="adj1" fmla="val -19750"/>
              <a:gd name="adj2" fmla="val 25028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зультаты итогового собеседования как допуск к ГИА-9 действуют бесс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60520" y="5838840"/>
            <a:ext cx="84042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В итоговом собеседова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не принимают 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допущенные к ГИА-9, но не прошедшие ГИА-9 в предыдущи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не допущенные к ГИА-9 в 2022/2023 учебном году  году и ранее, но имеющие "зачет" за ИС-9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лица с ОВЗ, обучающиеся по АООП для детей с умственной отсталостью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получают свидетель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об 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108000" y="5964120"/>
            <a:ext cx="576360" cy="57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5" name=""/>
          <p:cNvGraphicFramePr/>
          <p:nvPr/>
        </p:nvGraphicFramePr>
        <p:xfrm>
          <a:off x="324000" y="4800600"/>
          <a:ext cx="8640720" cy="1004760"/>
        </p:xfrm>
        <a:graphic>
          <a:graphicData uri="http://schemas.openxmlformats.org/drawingml/2006/table">
            <a:tbl>
              <a:tblPr/>
              <a:tblGrid>
                <a:gridCol w="3168360"/>
                <a:gridCol w="5472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он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проходит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сещением обучающихся учебных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организован с применением электронного обучения и дистанционных образовательных технологий (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!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УО, ГОУ информирует комитет – в течение 1 дня с момента принятия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8431200" cy="420480"/>
          </a:xfrm>
          <a:prstGeom prst="rect">
            <a:avLst/>
          </a:prstGeom>
          <a:ln w="0">
            <a:noFill/>
          </a:ln>
        </p:spPr>
      </p:pic>
      <p:pic>
        <p:nvPicPr>
          <p:cNvPr id="78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50920" y="768240"/>
          <a:ext cx="8785080" cy="4799160"/>
        </p:xfrm>
        <a:graphic>
          <a:graphicData uri="http://schemas.openxmlformats.org/drawingml/2006/table">
            <a:tbl>
              <a:tblPr/>
              <a:tblGrid>
                <a:gridCol w="6889680"/>
                <a:gridCol w="1895400"/>
              </a:tblGrid>
              <a:tr h="108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рганизации ОО информирования  участников ИС-9 и их родителей (законных представителей) по вопросам организации и проведения ИС-9,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даления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рядка ознакомления с результатами ИС-9 (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сьмо комитета от 27.09.2023 № И-09/8779 о примерных </a:t>
                      </a:r>
                      <a:br>
                        <a:rPr sz="1300"/>
                      </a:b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ах листов информирования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.01.20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 утверждения ОО составов комиссий по проведению ИС-9 и проверке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ктуальности внесения сведений об участниках ИС-9 в РИС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obraz.volgograd.ru/gia/gia-9/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установки в Штабе ПО "Результаты итогового собеседования"; загрузка служебного файла форма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2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хнической готовности ОО к проведению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получения ОО списка участников ИС-9, ведомостей учета проведения ИС-9 в аудитории, бланков протоколов экспертов по оцениванию ответов участников ИС-9, специализирован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3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оверки и оценивания ИС-9 комиссиями по проверке ответов участников ИС-9. Передача электронных файлов с результатами оценивания ИС-9 в РЦО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знакомления с результатами ИС-9 участников ИС в  О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2 календарных дней после размещения РЦОИ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иема, передачи, учета, хранения и уничтожения материалов и документов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комитета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12.2022  № 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4" descr="C:\Users\klassnew7\Desktop\Новый рисунок.bmp"/>
          <p:cNvPicPr/>
          <p:nvPr/>
        </p:nvPicPr>
        <p:blipFill>
          <a:blip r:embed="rId4"/>
          <a:stretch/>
        </p:blipFill>
        <p:spPr>
          <a:xfrm>
            <a:off x="8298000" y="214200"/>
            <a:ext cx="668160" cy="685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хема 12" descr=""/>
          <p:cNvPicPr/>
          <p:nvPr/>
        </p:nvPicPr>
        <p:blipFill>
          <a:blip r:embed="rId1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Джек\Desktop\Coat_of_Arms_of_Volgograd_oblast.png"/>
          <p:cNvPicPr/>
          <p:nvPr/>
        </p:nvPicPr>
        <p:blipFill>
          <a:blip r:embed="rId2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1185840" y="860400"/>
            <a:ext cx="7850160" cy="4017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9 классов и экстер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1341360"/>
          <a:ext cx="7848720" cy="4262400"/>
        </p:xfrm>
        <a:graphic>
          <a:graphicData uri="http://schemas.openxmlformats.org/drawingml/2006/table">
            <a:tbl>
              <a:tblPr/>
              <a:tblGrid>
                <a:gridCol w="1368720"/>
                <a:gridCol w="1771560"/>
                <a:gridCol w="1684440"/>
                <a:gridCol w="1454040"/>
                <a:gridCol w="1569960"/>
              </a:tblGrid>
              <a:tr h="51444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обучающихся и экстернов с ОВЗ,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обучающихся и экстернов - детей-инвалидов и инвали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слабослышащих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тяжелыми нарушениями речи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участников с задержкой психического разви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и поздноослепших, не владеющих шрифтом Брайля (2023 – 5 балл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и поздноослепших, владеющих шрифтом Брайл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абовидящ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нарушениями опорно-двигательного аппарата, при отсутствии сопутствующих заболева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иных категорий участников, которым требуется создание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специальных услов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5840" y="5589720"/>
          <a:ext cx="7850160" cy="51732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5173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участников с нарушениями опорно-двигательного аппарата, при наличии сопутствующих заболеваний – в соответствии с сопутствующими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Скругленный прямоугольник 4"/>
          <p:cNvSpPr/>
          <p:nvPr/>
        </p:nvSpPr>
        <p:spPr>
          <a:xfrm>
            <a:off x="103320" y="1895400"/>
            <a:ext cx="1044360" cy="2984400"/>
          </a:xfrm>
          <a:custGeom>
            <a:avLst/>
            <a:gdLst>
              <a:gd name="textAreaLeft" fmla="*/ 50760 w 1044360"/>
              <a:gd name="textAreaRight" fmla="*/ 993600 w 1044360"/>
              <a:gd name="textAreaTop" fmla="*/ 50760 h 2984400"/>
              <a:gd name="textAreaBottom" fmla="*/ 2933640 h 2984400"/>
            </a:gdLst>
            <a:ahLst/>
            <a:rect l="textAreaLeft" t="textAreaTop" r="textAreaRight" b="textAreaBottom"/>
            <a:pathLst>
              <a:path w="21600" h="61711">
                <a:moveTo>
                  <a:pt x="3600" y="0"/>
                </a:moveTo>
                <a:arcTo wR="3600" hR="3600" stAng="16200000" swAng="-5400000"/>
                <a:lnTo>
                  <a:pt x="0" y="58111"/>
                </a:lnTo>
                <a:arcTo wR="3600" hR="3600" stAng="10800000" swAng="-5400000"/>
                <a:lnTo>
                  <a:pt x="18000" y="6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от 11.12.2023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11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6 Прил.12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ИС-9 (приказ от 22.01.2024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68440" y="365040"/>
            <a:ext cx="832464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ое количество баллов для получения "зачета" для разных категорий участников ИС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 со стрелкой вверх 15"/>
          <p:cNvSpPr/>
          <p:nvPr/>
        </p:nvSpPr>
        <p:spPr>
          <a:xfrm>
            <a:off x="2411280" y="6165720"/>
            <a:ext cx="5997600" cy="479520"/>
          </a:xfrm>
          <a:prstGeom prst="upArrowCallout">
            <a:avLst>
              <a:gd name="adj1" fmla="val 25017"/>
              <a:gd name="adj2" fmla="val 25015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"ЗАЧЕ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1:56:05Z</dcterms:created>
  <dc:creator>Бейтуганова Мадина Сафарбиевна</dc:creator>
  <dc:description/>
  <dc:language>en-US</dc:language>
  <cp:lastModifiedBy>Афонина</cp:lastModifiedBy>
  <cp:lastPrinted>2023-12-01T05:00:34Z</cp:lastPrinted>
  <dcterms:modified xsi:type="dcterms:W3CDTF">2024-01-29T11:40:58Z</dcterms:modified>
  <cp:revision>930</cp:revision>
  <dc:subject/>
  <dc:title>Государственная итоговая аттестация  по образовательным программам  среднего общего образования:  итоги проведения в 2017 году,  подготовка к 2018 году</dc:title>
</cp:coreProperties>
</file>