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0BF8-9220-4B56-89C8-4A9854BDF7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EE7F-D488-4ECA-8995-EEC4CBA4D2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28F8-B308-4202-93EE-327D2D336D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8985-633D-426A-B785-1E75F41969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16B9-F5DB-4D18-ACA1-2FC4A36EF2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5F29-C662-408F-9EEF-608E057E9A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A4F6-FD6E-4E0E-9640-31C5517EA9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5CA-4AB7-404F-9A35-0D96D797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440-98AF-419B-8DDD-045A28E0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BE8-050D-4372-B064-AEBEB51A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731-B5DB-4235-9D7A-29EFB351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A10-8EB8-4404-BF39-0F7B1572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81E-D66D-455E-B15C-55D7A551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C37-A7F8-493B-9CCF-F2398BEE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002-C2B6-4484-BEA0-45C3A52D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B41-55CE-437C-B4F6-12DE2781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0FC-B2AB-439D-971A-A3C9C565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730-8BCE-4332-BB0B-7044ECFD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0C0-7F7A-45B7-9516-9BE85F71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70CF-2CF2-4DFD-B33D-A69441963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073240"/>
            <a:ext cx="8605800" cy="2292480"/>
          </a:xfrm>
          <a:prstGeom prst="rect">
            <a:avLst/>
          </a:prstGeom>
          <a:noFill/>
          <a:ln w="1908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Организационные и нормативные вопросы подготовки к проведению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итогового собеседования по русскому языку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в общеобразовательных организациях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Волгоградской области в 2023/2024 учебном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Users\M_Beituganova\Desktop\banner_gia_9.jpg"/>
          <p:cNvPicPr/>
          <p:nvPr/>
        </p:nvPicPr>
        <p:blipFill>
          <a:blip r:embed="rId1"/>
          <a:stretch/>
        </p:blipFill>
        <p:spPr>
          <a:xfrm>
            <a:off x="642960" y="428760"/>
            <a:ext cx="1600200" cy="1466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4143240" y="142920"/>
            <a:ext cx="4786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«Организационно - технологические вопросы подготовки </a:t>
            </a:r>
            <a:br>
              <a:rPr sz="1400"/>
            </a:b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к проведению итогового собеседования по русскому языку </a:t>
            </a:r>
            <a:br>
              <a:rPr sz="1400"/>
            </a:b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в общеобразовательных организациях Волгоградской области в 2023/2024 учебном год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10" descr=""/>
          <p:cNvPicPr/>
          <p:nvPr/>
        </p:nvPicPr>
        <p:blipFill>
          <a:blip r:embed="rId1"/>
          <a:stretch/>
        </p:blipFill>
        <p:spPr>
          <a:xfrm>
            <a:off x="585720" y="285840"/>
            <a:ext cx="8435880" cy="701640"/>
          </a:xfrm>
          <a:prstGeom prst="rect">
            <a:avLst/>
          </a:prstGeom>
          <a:ln w="0">
            <a:noFill/>
          </a:ln>
        </p:spPr>
      </p:pic>
      <p:pic>
        <p:nvPicPr>
          <p:cNvPr id="53" name="Схема 12" descr=""/>
          <p:cNvPicPr/>
          <p:nvPr/>
        </p:nvPicPr>
        <p:blipFill>
          <a:blip r:embed="rId2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6"/>
          <p:cNvSpPr/>
          <p:nvPr/>
        </p:nvSpPr>
        <p:spPr>
          <a:xfrm>
            <a:off x="108000" y="1052640"/>
            <a:ext cx="8928000" cy="11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и Федеральной службы по надзору в сфере образования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уки от 04.04.2023 № 232/551 "Об утверждении Порядка проведения государственной итоговой аттестаци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разовательным программам основного общего образования" (раздел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Федеральной службы по надзору в сфере образования и науки от 20.10.2023 №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04-339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комендаци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рганизации и проведению итогового собеседования по русскому языку в 2024 г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7"/>
          <p:cNvSpPr/>
          <p:nvPr/>
        </p:nvSpPr>
        <p:spPr>
          <a:xfrm>
            <a:off x="142920" y="784080"/>
            <a:ext cx="2448000" cy="20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Федера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9"/>
          <p:cNvSpPr/>
          <p:nvPr/>
        </p:nvSpPr>
        <p:spPr>
          <a:xfrm>
            <a:off x="106200" y="2349360"/>
            <a:ext cx="8929800" cy="43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риказы комитета образования, науки и молодежной политики Волгоградской област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01.08.2023 № 688 "Об утверждении Дорожной карты подготовки к проведению государственной итоговой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аттестации по образовательным программам основного общего и среднего общего образования в Волгоградской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бласти в 2024 году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12.12.2023 №122 "Об утверждении Перечня мест подачи заявлений для участия в итоговом собеседовани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о русскому языку и в государственной итоговой аттестации по образовательным программам основного общего образования в форме основного государственного экзамена и государственного выпускного экзамена в 2024 году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на территории Волгоградской области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11.12.2023 № 1114 "О проведении итогового собеседования по русскому языку в Волгоградской област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в 2023/2024 учебном год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22.01.2024 № 3 "О внесении изменений в приказ комитета образования, науки и молодежной политики Волгоградской области от 28 октября 2019 г. № 138 "Об утверждении порядка проведения итогового собеседования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о русскому языку в Волгоградской области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22.01.2024 № 4 "О внесении изменений в приказ комитета образования, науки и молодежной политики Волгоградской области от 16 января 2023 г. № 6 "Об утверждении инструкции по организации и проведению итогового собеседования по русскому языку в Волгоградской области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21.12.2022 №107 "Об утверждении Положения об организации приема, передачи, учета, хранения и уничтожения экзаменационных материалов и отчетных документов при проведении итогового собеседования по русскому языку и государственной итоговой аттестации по образовательным программам основного общего образования в Волгоградской области и Положения об организации приема, передачи, учета, хранения и уничтожения экзаменационных материалов и отчетных документов при проведении итогового сочинения (изложения) и государственной итоговой аттестации по образовательным программам среднего общего образования в Волгоградской области"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20"/>
          <p:cNvSpPr/>
          <p:nvPr/>
        </p:nvSpPr>
        <p:spPr>
          <a:xfrm>
            <a:off x="106200" y="2016000"/>
            <a:ext cx="252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егиона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C:\Users\Джек\Desktop\Coat_of_Arms_of_Volgograd_oblast.png"/>
          <p:cNvPicPr/>
          <p:nvPr/>
        </p:nvPicPr>
        <p:blipFill>
          <a:blip r:embed="rId3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:\Users\Джек\Desktop\Coat_of_Arms_of_Volgograd_oblast.png"/>
          <p:cNvPicPr/>
          <p:nvPr/>
        </p:nvPicPr>
        <p:blipFill>
          <a:blip r:embed="rId1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640" y="324000"/>
            <a:ext cx="5832720" cy="225360"/>
          </a:xfrm>
          <a:prstGeom prst="rect">
            <a:avLst/>
          </a:prstGeom>
          <a:solidFill>
            <a:srgbClr val="8eb4e3"/>
          </a:solidFill>
          <a:ln w="9360">
            <a:solidFill>
              <a:srgbClr val="c6d9f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-9 в 2024 году: новое в Порядк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TextBox 4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8807400" cy="614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55640" y="4581360"/>
          <a:ext cx="7272360" cy="1452600"/>
        </p:xfrm>
        <a:graphic>
          <a:graphicData uri="http://schemas.openxmlformats.org/drawingml/2006/table">
            <a:tbl>
              <a:tblPr/>
              <a:tblGrid>
                <a:gridCol w="2303640"/>
                <a:gridCol w="1655640"/>
                <a:gridCol w="2378160"/>
                <a:gridCol w="934920"/>
              </a:tblGrid>
              <a:tr h="370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ое 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пые, поздноослепшие,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щие шрифтом Брайл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с РАС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с З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, позднооглохши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слышащи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пые, поздноослепшие,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щие шрифтом Брайл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Стрелка вверх 3"/>
          <p:cNvSpPr/>
          <p:nvPr/>
        </p:nvSpPr>
        <p:spPr>
          <a:xfrm>
            <a:off x="2771640" y="4970520"/>
            <a:ext cx="182520" cy="97956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2dc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верх 8"/>
          <p:cNvSpPr/>
          <p:nvPr/>
        </p:nvSpPr>
        <p:spPr>
          <a:xfrm>
            <a:off x="6732720" y="4971960"/>
            <a:ext cx="215640" cy="978120"/>
          </a:xfrm>
          <a:prstGeom prst="upArrow">
            <a:avLst>
              <a:gd name="adj1" fmla="val 50000"/>
              <a:gd name="adj2" fmla="val 50063"/>
            </a:avLst>
          </a:prstGeom>
          <a:solidFill>
            <a:srgbClr val="f2dc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верх 9"/>
          <p:cNvSpPr/>
          <p:nvPr/>
        </p:nvSpPr>
        <p:spPr>
          <a:xfrm rot="10800000">
            <a:off x="4427280" y="4971600"/>
            <a:ext cx="215640" cy="978120"/>
          </a:xfrm>
          <a:prstGeom prst="upArrow">
            <a:avLst>
              <a:gd name="adj1" fmla="val 50000"/>
              <a:gd name="adj2" fmla="val 50063"/>
            </a:avLst>
          </a:prstGeom>
          <a:solidFill>
            <a:srgbClr val="f2dc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0" descr=""/>
          <p:cNvPicPr/>
          <p:nvPr/>
        </p:nvPicPr>
        <p:blipFill>
          <a:blip r:embed="rId1"/>
          <a:stretch/>
        </p:blipFill>
        <p:spPr>
          <a:xfrm>
            <a:off x="433440" y="285840"/>
            <a:ext cx="8435880" cy="488880"/>
          </a:xfrm>
          <a:prstGeom prst="rect">
            <a:avLst/>
          </a:prstGeom>
          <a:ln w="0">
            <a:noFill/>
          </a:ln>
        </p:spPr>
      </p:pic>
      <p:pic>
        <p:nvPicPr>
          <p:cNvPr id="69" name="Схема 12" descr=""/>
          <p:cNvPicPr/>
          <p:nvPr/>
        </p:nvPicPr>
        <p:blipFill>
          <a:blip r:embed="rId2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C:\Users\Джек\Desktop\Coat_of_Arms_of_Volgograd_oblast.png"/>
          <p:cNvPicPr/>
          <p:nvPr/>
        </p:nvPicPr>
        <p:blipFill>
          <a:blip r:embed="rId3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50920" y="765000"/>
          <a:ext cx="8785080" cy="3646800"/>
        </p:xfrm>
        <a:graphic>
          <a:graphicData uri="http://schemas.openxmlformats.org/drawingml/2006/table">
            <a:tbl>
              <a:tblPr/>
              <a:tblGrid>
                <a:gridCol w="2104920"/>
                <a:gridCol w="3106800"/>
                <a:gridCol w="1638360"/>
                <a:gridCol w="1935000"/>
              </a:tblGrid>
              <a:tr h="483480"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да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ые да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 проведения ИС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2.202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3.202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4.202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понедельник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</a:tr>
              <a:tr h="45252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 завершения подач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явления на участие в ИС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01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304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я участник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 9-х класс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экстерны;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 с ОВЗ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экстерны с ОВЗ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-дети-инвалиды и инвали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экстерны-дети-инвалиды и инвали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хся на дом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, находящихся в медицински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 gridSpan="2"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олучившие по ИС-9 "незачет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удаленные с ИС-9 за Порядка ГИА-9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не явившиеся на ИС-9 по уважительным причинам, подтвержденным документальн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не завершившие ИС-9 по уважительным причинам, подтвержденным документа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ознакомления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результа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зднее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февраля 202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здн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марта 202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здн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апреля 202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Выноска со стрелкой вверх 11"/>
          <p:cNvSpPr/>
          <p:nvPr/>
        </p:nvSpPr>
        <p:spPr>
          <a:xfrm>
            <a:off x="322200" y="4292640"/>
            <a:ext cx="8642520" cy="431640"/>
          </a:xfrm>
          <a:prstGeom prst="upArrowCallout">
            <a:avLst>
              <a:gd name="adj1" fmla="val -19750"/>
              <a:gd name="adj2" fmla="val 25028"/>
              <a:gd name="adj3" fmla="val 25000"/>
              <a:gd name="adj4" fmla="val 70041"/>
            </a:avLst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езультаты итогового собеседования как допуск к ГИА-9 действуют бессроч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560520" y="5838840"/>
            <a:ext cx="84042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В итоговом собеседова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не принимают 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- обучающиеся 9-х классов, допущенные к ГИА-9, но не прошедшие ГИА-9 в предыдущие г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- обучающиеся 9-х классов, не допущенные к ГИА-9 в 2022/2023 учебном году  году и ранее, но имеющие "зачет" за ИС-9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- лица с ОВЗ, обучающиеся по АООП для детей с умственной отсталостью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получают свидетель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об образ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4"/>
          <a:stretch/>
        </p:blipFill>
        <p:spPr>
          <a:xfrm>
            <a:off x="108000" y="5964120"/>
            <a:ext cx="576360" cy="57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aphicFrame>
        <p:nvGraphicFramePr>
          <p:cNvPr id="75" name=""/>
          <p:cNvGraphicFramePr/>
          <p:nvPr/>
        </p:nvGraphicFramePr>
        <p:xfrm>
          <a:off x="324000" y="4800600"/>
          <a:ext cx="8640720" cy="1004760"/>
        </p:xfrm>
        <a:graphic>
          <a:graphicData uri="http://schemas.openxmlformats.org/drawingml/2006/table">
            <a:tbl>
              <a:tblPr/>
              <a:tblGrid>
                <a:gridCol w="3168360"/>
                <a:gridCol w="5472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ная форма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танционная форма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й процесс проходит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посещением обучающихся учебных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й процесс организован с применением электронного обучения и дистанционных образовательных технологий (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!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УО, ГОУ информирует комитет – в течение 1 дня с момента принятия ре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10" descr=""/>
          <p:cNvPicPr/>
          <p:nvPr/>
        </p:nvPicPr>
        <p:blipFill>
          <a:blip r:embed="rId1"/>
          <a:stretch/>
        </p:blipFill>
        <p:spPr>
          <a:xfrm>
            <a:off x="444600" y="281160"/>
            <a:ext cx="8431200" cy="420480"/>
          </a:xfrm>
          <a:prstGeom prst="rect">
            <a:avLst/>
          </a:prstGeom>
          <a:ln w="0">
            <a:noFill/>
          </a:ln>
        </p:spPr>
      </p:pic>
      <p:pic>
        <p:nvPicPr>
          <p:cNvPr id="78" name="Схема 12" descr=""/>
          <p:cNvPicPr/>
          <p:nvPr/>
        </p:nvPicPr>
        <p:blipFill>
          <a:blip r:embed="rId2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Users\Джек\Desktop\Coat_of_Arms_of_Volgograd_oblast.png"/>
          <p:cNvPicPr/>
          <p:nvPr/>
        </p:nvPicPr>
        <p:blipFill>
          <a:blip r:embed="rId3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50920" y="768240"/>
          <a:ext cx="8785080" cy="4799160"/>
        </p:xfrm>
        <a:graphic>
          <a:graphicData uri="http://schemas.openxmlformats.org/drawingml/2006/table">
            <a:tbl>
              <a:tblPr/>
              <a:tblGrid>
                <a:gridCol w="6889680"/>
                <a:gridCol w="1895400"/>
              </a:tblGrid>
              <a:tr h="1081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организации ОО информирования  участников ИС-9 и их родителей (законных представителей) по вопросам организации и проведения ИС-9, </a:t>
                      </a: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удаления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орядка ознакомления с результатами ИС-9 (</a:t>
                      </a: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исьмо комитета от 27.09.2023 № И-09/8779 о примерных </a:t>
                      </a:r>
                      <a:br>
                        <a:rPr sz="1300"/>
                      </a:b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ах листов информирования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4.01.20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нтроль утверждения ОО составов комиссий по проведению ИС-9 и проверке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1.01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актуальности внесения сведений об участниках ИС-9 в РИС (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s://obraz.volgograd.ru/gia/gia-9/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02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и контроль установки в Штабе ПО "Результаты итогового собеседования"; загрузка служебного файла формат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2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2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технической готовности ОО к проведению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2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и контроль получения ОО списка участников ИС-9, ведомостей учета проведения ИС-9 в аудитории, бланков протоколов экспертов по оцениванию ответов участников ИС-9, специализированной фор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3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роверки и оценивания ИС-9 комиссиями по проверке ответов участников ИС-9. Передача электронных файлов с результатами оценивания ИС-9 в РЦО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16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ознакомления с результатами ИС-9 участников ИС в  О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днее 2 календарных дней после размещения РЦОИ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6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риема, передачи, учета, хранения и уничтожения материалов и документов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комитета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.12.2022  № 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4" descr="C:\Users\klassnew7\Desktop\Новый рисунок.bmp"/>
          <p:cNvPicPr/>
          <p:nvPr/>
        </p:nvPicPr>
        <p:blipFill>
          <a:blip r:embed="rId4"/>
          <a:stretch/>
        </p:blipFill>
        <p:spPr>
          <a:xfrm>
            <a:off x="8298000" y="214200"/>
            <a:ext cx="668160" cy="6858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хема 12" descr=""/>
          <p:cNvPicPr/>
          <p:nvPr/>
        </p:nvPicPr>
        <p:blipFill>
          <a:blip r:embed="rId1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C:\Users\Джек\Desktop\Coat_of_Arms_of_Volgograd_oblast.png"/>
          <p:cNvPicPr/>
          <p:nvPr/>
        </p:nvPicPr>
        <p:blipFill>
          <a:blip r:embed="rId2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4"/>
          <p:cNvSpPr/>
          <p:nvPr/>
        </p:nvSpPr>
        <p:spPr>
          <a:xfrm>
            <a:off x="1185840" y="860400"/>
            <a:ext cx="7850160" cy="40176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учающихся 9 классов и экстерн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0 бал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87280" y="1341360"/>
          <a:ext cx="7848720" cy="4262400"/>
        </p:xfrm>
        <a:graphic>
          <a:graphicData uri="http://schemas.openxmlformats.org/drawingml/2006/table">
            <a:tbl>
              <a:tblPr/>
              <a:tblGrid>
                <a:gridCol w="1368720"/>
                <a:gridCol w="1771560"/>
                <a:gridCol w="1684440"/>
                <a:gridCol w="1454040"/>
                <a:gridCol w="1569960"/>
              </a:tblGrid>
              <a:tr h="514440"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для обучающихся и экстернов с ОВЗ,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обучающихся и экстернов - детей-инвалидов и инвалид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участников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расстройствами аутистического спект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глухих, позднооглохших, владеющих сурдопереводо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глухих, позднооглохших,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щих сурдопереводо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слабослышащих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участников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с тяжелыми нарушениями речи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для участников с задержкой психического развит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f497d"/>
                          </a:solidFill>
                          <a:latin typeface="Times New Roman"/>
                          <a:ea typeface="맑은 고딕"/>
                        </a:rPr>
                        <a:t>- для слепых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1f497d"/>
                          </a:solidFill>
                          <a:latin typeface="Times New Roman"/>
                          <a:ea typeface="맑은 고딕"/>
                        </a:rPr>
                        <a:t>и поздноослепших, не владеющих шрифтом Брайля (2023 – 5 балл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слепых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и поздноослепших, владеющих шрифтом Брайл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слабовидящи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участников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с нарушениями опорно-двигательного аппарата, при отсутствии сопутствующих заболева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для иных категорий участников, которым требуется создание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специальных услови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85840" y="5589720"/>
          <a:ext cx="7850160" cy="517320"/>
        </p:xfrm>
        <a:graphic>
          <a:graphicData uri="http://schemas.openxmlformats.org/drawingml/2006/table">
            <a:tbl>
              <a:tblPr/>
              <a:tblGrid>
                <a:gridCol w="7850160"/>
              </a:tblGrid>
              <a:tr h="5173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для участников с нарушениями опорно-двигательного аппарата, при наличии сопутствующих заболеваний – в соответствии с сопутствующими заболева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Скругленный прямоугольник 4"/>
          <p:cNvSpPr/>
          <p:nvPr/>
        </p:nvSpPr>
        <p:spPr>
          <a:xfrm>
            <a:off x="103320" y="1895400"/>
            <a:ext cx="1044360" cy="2984400"/>
          </a:xfrm>
          <a:custGeom>
            <a:avLst/>
            <a:gdLst>
              <a:gd name="textAreaLeft" fmla="*/ 50760 w 1044360"/>
              <a:gd name="textAreaRight" fmla="*/ 993600 w 1044360"/>
              <a:gd name="textAreaTop" fmla="*/ 50760 h 2984400"/>
              <a:gd name="textAreaBottom" fmla="*/ 2933640 h 2984400"/>
            </a:gdLst>
            <a:ahLst/>
            <a:rect l="textAreaLeft" t="textAreaTop" r="textAreaRight" b="textAreaBottom"/>
            <a:pathLst>
              <a:path w="21600" h="61711">
                <a:moveTo>
                  <a:pt x="3600" y="0"/>
                </a:moveTo>
                <a:arcTo wR="3600" hR="3600" stAng="16200000" swAng="-5400000"/>
                <a:lnTo>
                  <a:pt x="0" y="58111"/>
                </a:lnTo>
                <a:arcTo wR="3600" hR="3600" stAng="10800000" swAng="-5400000"/>
                <a:lnTo>
                  <a:pt x="18000" y="61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от 11.12.2023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111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.6 Прил.12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и ИС-9 (приказ от 22.01.2024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4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568440" y="365040"/>
            <a:ext cx="8324640" cy="368280"/>
          </a:xfrm>
          <a:prstGeom prst="rect">
            <a:avLst/>
          </a:prstGeom>
          <a:solidFill>
            <a:srgbClr val="8eb4e3"/>
          </a:solidFill>
          <a:ln w="9360">
            <a:solidFill>
              <a:srgbClr val="c6d9f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мальное количество баллов для получения "зачета" для разных категорий участников ИС-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Выноска со стрелкой вверх 15"/>
          <p:cNvSpPr/>
          <p:nvPr/>
        </p:nvSpPr>
        <p:spPr>
          <a:xfrm>
            <a:off x="2411280" y="6165720"/>
            <a:ext cx="5997600" cy="479520"/>
          </a:xfrm>
          <a:prstGeom prst="upArrowCallout">
            <a:avLst>
              <a:gd name="adj1" fmla="val 25017"/>
              <a:gd name="adj2" fmla="val 25015"/>
              <a:gd name="adj3" fmla="val 25000"/>
              <a:gd name="adj4" fmla="val 70041"/>
            </a:avLst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"ЗАЧЕТ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1T11:56:05Z</dcterms:created>
  <dc:creator>Бейтуганова Мадина Сафарбиевна</dc:creator>
  <dc:description/>
  <dc:language>en-US</dc:language>
  <cp:lastModifiedBy>Афонина</cp:lastModifiedBy>
  <cp:lastPrinted>2023-12-01T05:00:34Z</cp:lastPrinted>
  <dcterms:modified xsi:type="dcterms:W3CDTF">2024-01-29T11:40:58Z</dcterms:modified>
  <cp:revision>930</cp:revision>
  <dc:subject/>
  <dc:title>Государственная итоговая аттестация  по образовательным программам  среднего общего образования:  итоги проведения в 2017 году,  подготовка к 2018 году</dc:title>
</cp:coreProperties>
</file>